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7.gif" ContentType="image/gif"/>
  <Override PartName="/ppt/media/image3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5.gif" ContentType="image/gif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95E5-A903-4DA0-8EEF-4226312D0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523C-6092-4F7F-B650-2296FA16D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B479-0AFD-433C-BFE0-772D34A54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2EE7-E9E0-4573-960B-8C7AA2840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BE28D-C0D6-4E91-A9E2-791E4DE67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7273E-EDC9-46B3-9F0F-DBCE209C4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E21BD-104C-41DE-B933-87E95E5EF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4FB5A-FA08-45C3-9EE0-7BE99A9E4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E638A-B740-4200-8117-0C9BAB0E1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803E1-F116-4FF3-9D1D-F2B2271C2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EE54A-F4DA-42A2-9677-38F0EA24E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5540-72A3-4F9B-8667-D8953FBA9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52047-BDBA-4EF3-9078-4AC6610A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0A776-AEE3-44A6-8707-A126463A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14D61-859C-4D22-9F7B-A89A01217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1AB01-8BEA-438A-9088-AD8B2510C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7F8FA-A0DB-416C-908A-408029C79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A505-0018-4795-9A4F-22DB86E8F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CDFE-D650-4A2E-BBB9-366F8608A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1448-79EC-4991-99B7-349A96FD8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2BEC-B981-4FD2-A760-CD8A79A12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B3E3-F1D4-4F37-8A9E-8B761B56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2D31-681B-42A9-87AC-0465BBE9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269F-953A-4565-ADCF-A3A64D5C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>
            <a:alpha val="9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127B9-0223-45BB-807B-C9BBF35F151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>
            <a:alpha val="9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1609D-CD65-4D94-9AE7-8D173CF0EE5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2"/>
          <p:cNvSpPr txBox="1"/>
          <p:nvPr/>
        </p:nvSpPr>
        <p:spPr>
          <a:xfrm>
            <a:off x="914400" y="762120"/>
            <a:ext cx="73152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Cooper Black"/>
              </a:rPr>
              <a:t>The Cell Cycle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Cooper Black"/>
              <a:ea typeface="Cooper Black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1066680" y="3505320"/>
            <a:ext cx="2438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cell cycle diagram"/>
          <p:cNvPicPr/>
          <p:nvPr/>
        </p:nvPicPr>
        <p:blipFill>
          <a:blip r:embed="rId1"/>
          <a:stretch/>
        </p:blipFill>
        <p:spPr>
          <a:xfrm>
            <a:off x="3962520" y="2549520"/>
            <a:ext cx="3809880" cy="341316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609480" y="317160"/>
            <a:ext cx="6248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fibers disapp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romatids unwind and stretch to for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romat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uclear membrane forms around e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of chromatin, splitting the cytoplasm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o two separate pa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interkinesis will follow, which is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ing peri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9" descr="telo1"/>
          <p:cNvPicPr/>
          <p:nvPr/>
        </p:nvPicPr>
        <p:blipFill>
          <a:blip r:embed="rId1"/>
          <a:stretch/>
        </p:blipFill>
        <p:spPr>
          <a:xfrm>
            <a:off x="3505320" y="3657600"/>
            <a:ext cx="3504960" cy="2629080"/>
          </a:xfrm>
          <a:prstGeom prst="rect">
            <a:avLst/>
          </a:prstGeom>
          <a:ln w="0">
            <a:noFill/>
          </a:ln>
        </p:spPr>
      </p:pic>
      <p:sp>
        <p:nvSpPr>
          <p:cNvPr id="126" name="WordArt 12"/>
          <p:cNvSpPr txBox="1"/>
          <p:nvPr/>
        </p:nvSpPr>
        <p:spPr>
          <a:xfrm rot="5400000">
            <a:off x="4800240" y="2895480"/>
            <a:ext cx="6477120" cy="99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Times New Roman"/>
              </a:rPr>
              <a:t>TELOPHAS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Times New Roman"/>
              <a:ea typeface="Times New Roman"/>
            </a:endParaRPr>
          </a:p>
        </p:txBody>
      </p:sp>
      <p:sp>
        <p:nvSpPr>
          <p:cNvPr id="127" name="Text Box 18"/>
          <p:cNvSpPr/>
          <p:nvPr/>
        </p:nvSpPr>
        <p:spPr>
          <a:xfrm>
            <a:off x="838080" y="4419720"/>
            <a:ext cx="237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ranes forming, showing the division of the cytoplas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2000"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500"/>
                            </p:stCondLst>
                            <p:childTnLst>
                              <p:par>
                                <p:cTn id="3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4"/>
          <p:cNvSpPr txBox="1"/>
          <p:nvPr/>
        </p:nvSpPr>
        <p:spPr>
          <a:xfrm>
            <a:off x="228600" y="0"/>
            <a:ext cx="632448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urlz MT"/>
              </a:rPr>
              <a:t>Cytokinesi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urlz MT"/>
              <a:ea typeface="Curlz MT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3048120" y="1904040"/>
            <a:ext cx="5790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ivision of the cytoplasm of a parent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he cell pinches together in the cen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each daughter cell gets identical sets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A, the cytoplasm and organelles are on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ghly divided equally between the two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6248520" y="4114800"/>
            <a:ext cx="1447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NAL STAGE OF MIT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0" descr="cytani"/>
          <p:cNvPicPr/>
          <p:nvPr/>
        </p:nvPicPr>
        <p:blipFill>
          <a:blip r:embed="rId1"/>
          <a:stretch/>
        </p:blipFill>
        <p:spPr>
          <a:xfrm>
            <a:off x="228600" y="3886200"/>
            <a:ext cx="4724280" cy="276552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2"/>
          <p:cNvSpPr/>
          <p:nvPr/>
        </p:nvSpPr>
        <p:spPr>
          <a:xfrm>
            <a:off x="228600" y="32004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ailed events occurring in cytokine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6000">
    <p:random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9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9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000"/>
                            </p:stCondLst>
                            <p:childTnLst>
                              <p:par>
                                <p:cTn id="3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9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3000"/>
                            </p:stCondLst>
                            <p:childTnLst>
                              <p:par>
                                <p:cTn id="35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9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4000"/>
                            </p:stCondLst>
                            <p:childTnLst>
                              <p:par>
                                <p:cTn id="36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9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5"/>
          <p:cNvSpPr txBox="1"/>
          <p:nvPr/>
        </p:nvSpPr>
        <p:spPr>
          <a:xfrm>
            <a:off x="838080" y="304920"/>
            <a:ext cx="73915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urlz MT"/>
              </a:rPr>
              <a:t>Conclusion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urlz MT"/>
              <a:ea typeface="Curlz MT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990720" y="1981080"/>
            <a:ext cx="6858000" cy="45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vered in this presentation was the cell cycle in detail.  It was learned that the steps within this cycle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1 phase - energy consuming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phase - DNA duplic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2 Phase - growth and energy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itosi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equal division of D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hase - 2 centrosome move to opposite po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phase - chromosomes move to equator of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phase - fibers separate to opposite po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ophase - nuclear membrane forms around the 2 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ytokinesis - division of the cytoplasm and organel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6000">
    <p:random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WordArt 2"/>
          <p:cNvSpPr txBox="1"/>
          <p:nvPr/>
        </p:nvSpPr>
        <p:spPr>
          <a:xfrm>
            <a:off x="1371600" y="152280"/>
            <a:ext cx="60958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Curlz MT"/>
              </a:rPr>
              <a:t>Works Cited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Curlz MT"/>
              <a:ea typeface="Curlz MT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685800" y="1371600"/>
            <a:ext cx="8153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ells and the Cell Cycle - Day 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 2003.  Desert Vista High School.  24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ptember 2003.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lt;http://staff.tuhsd.k12.az.us/gfoster/standard/bcell2.htm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ell Cycle Regul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 2003.  University of Pennsylvania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lt;http://www.geocities.com/CollegePark/Lab/1580/cycle.htm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etaphase 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 1997.  North Carolina State University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lt;http://www4.ncsu.edu/unity/users/b/bnchorle/www/metai.htm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naphase 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 1997.  North Carolina State University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lt;http://www4.ncsu.edu/unity/users/b/bnchorle/www/anai.htm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elophase 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 1997.  North Carolina State University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lt;http://www4.ncsu.edu/unity/users/b/bnchorle/www/teloi.htm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YTOKINESI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 1999.  The University of Manchester &lt;http://www.teaching-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omed.man.ac.uk/ramsay/Cytok.htm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random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0"/>
                            </p:stCondLst>
                            <p:childTnLst>
                              <p:par>
                                <p:cTn id="39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5"/>
          <p:cNvSpPr txBox="1"/>
          <p:nvPr/>
        </p:nvSpPr>
        <p:spPr>
          <a:xfrm>
            <a:off x="304920" y="152280"/>
            <a:ext cx="46479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Cooper Black"/>
              </a:rPr>
              <a:t>OVERVIEW</a:t>
            </a:r>
            <a:endParaRPr b="0" lang="en-US" sz="2400" spc="1" strike="noStrike">
              <a:ln w="0">
                <a:noFill/>
              </a:ln>
              <a:solidFill>
                <a:srgbClr val="ff0066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Cooper Black"/>
              <a:ea typeface="Cooper Black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380880" y="198108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457200" y="5257800"/>
            <a:ext cx="533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presentation, all of the phases of the cell cycle will be covered. The order is as foll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791320" y="990720"/>
            <a:ext cx="259056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1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2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t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o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tokin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0" descr="cycle2"/>
          <p:cNvPicPr/>
          <p:nvPr/>
        </p:nvPicPr>
        <p:blipFill>
          <a:blip r:embed="rId1"/>
          <a:stretch/>
        </p:blipFill>
        <p:spPr>
          <a:xfrm>
            <a:off x="228600" y="914400"/>
            <a:ext cx="5907240" cy="4343400"/>
          </a:xfrm>
          <a:prstGeom prst="rect">
            <a:avLst/>
          </a:prstGeom>
          <a:ln w="0">
            <a:noFill/>
          </a:ln>
        </p:spPr>
      </p:pic>
    </p:spTree>
  </p:cSld>
  <p:transition advTm="22000">
    <p:random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3"/>
          <p:cNvSpPr txBox="1"/>
          <p:nvPr/>
        </p:nvSpPr>
        <p:spPr>
          <a:xfrm>
            <a:off x="3505320" y="533520"/>
            <a:ext cx="46432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Cooper Black"/>
              </a:rPr>
              <a:t>G1 Phas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Cooper Black"/>
              <a:ea typeface="Cooper Black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457200" y="2971800"/>
            <a:ext cx="8001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called Interph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rmation of two daughter cells from a parent cell i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tonkinesis is an energy-consuming process.  The ti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ed by the new cells to replenish their ener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es this “gap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cell energy reserves are restored, the daugh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s begin to gr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longest phase of the cell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phase1"/>
          <p:cNvPicPr/>
          <p:nvPr/>
        </p:nvPicPr>
        <p:blipFill>
          <a:blip r:embed="rId1"/>
          <a:stretch/>
        </p:blipFill>
        <p:spPr>
          <a:xfrm>
            <a:off x="533520" y="609480"/>
            <a:ext cx="2286000" cy="1532160"/>
          </a:xfrm>
          <a:prstGeom prst="rect">
            <a:avLst/>
          </a:prstGeom>
          <a:ln w="0">
            <a:noFill/>
          </a:ln>
        </p:spPr>
      </p:pic>
    </p:spTree>
  </p:cSld>
  <p:transition advTm="25000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3"/>
          <p:cNvSpPr txBox="1"/>
          <p:nvPr/>
        </p:nvSpPr>
        <p:spPr>
          <a:xfrm rot="5400000">
            <a:off x="-2288520" y="2745720"/>
            <a:ext cx="6019920" cy="985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/>
                  </a:outerShdw>
                </a:effectLst>
                <a:latin typeface="Cooper Black"/>
              </a:rPr>
              <a:t>S Phase</a:t>
            </a:r>
            <a:endParaRPr b="0" lang="en-US" sz="24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/>
                </a:outerShdw>
              </a:effectLst>
              <a:latin typeface="Cooper Black"/>
              <a:ea typeface="Cooper Black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1143000" y="228600"/>
            <a:ext cx="7620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hesis means to mak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a period of growth, each cell's original D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duplicated in the process of replication or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of duplicating the DNA molec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1600200" y="541008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PHASE IS ALSO KNOWN AS THE SYNTHESIS PHASE OR DNA SYNTHE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DNA condenses into Chromosomes"/>
          <p:cNvPicPr/>
          <p:nvPr/>
        </p:nvPicPr>
        <p:blipFill>
          <a:blip r:embed="rId3"/>
          <a:stretch/>
        </p:blipFill>
        <p:spPr>
          <a:xfrm>
            <a:off x="7162920" y="2286000"/>
            <a:ext cx="1355760" cy="3314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chromos"/>
          <p:cNvPicPr/>
          <p:nvPr/>
        </p:nvPicPr>
        <p:blipFill>
          <a:blip r:embed="rId4"/>
          <a:stretch/>
        </p:blipFill>
        <p:spPr>
          <a:xfrm>
            <a:off x="1905120" y="2895480"/>
            <a:ext cx="1960560" cy="194004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1"/>
          <p:cNvSpPr/>
          <p:nvPr/>
        </p:nvSpPr>
        <p:spPr>
          <a:xfrm>
            <a:off x="4191120" y="3276720"/>
            <a:ext cx="19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4114800" y="32004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chromosome that is found in the cell during cell divi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6000">
    <p:random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8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"/>
          <p:cNvSpPr/>
          <p:nvPr/>
        </p:nvSpPr>
        <p:spPr>
          <a:xfrm>
            <a:off x="0" y="31240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plication of DNA is another energy-consuming pro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cell. The time taken by a cell to build up its energy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rves produces this second "gap"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4"/>
          <p:cNvSpPr txBox="1"/>
          <p:nvPr/>
        </p:nvSpPr>
        <p:spPr>
          <a:xfrm>
            <a:off x="533520" y="5029200"/>
            <a:ext cx="80010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urlz MT"/>
              </a:rPr>
              <a:t>G2 Phas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urlz MT"/>
              <a:ea typeface="Curlz MT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838080" y="380880"/>
            <a:ext cx="594360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uring the G2 Phase, the cell aga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ndergoes growth and protein synthe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cause it needs enough proteins for the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ells it will split into, priming it to be able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vide. Once this is complete, and has go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rough many checkpoints along the way,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ell finally enters the fourth and final phase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cell cycle.  This phase is known as the 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Mitosis) ph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80905675"/>
          <p:cNvPicPr/>
          <p:nvPr/>
        </p:nvPicPr>
        <p:blipFill>
          <a:blip r:embed="rId1"/>
          <a:stretch/>
        </p:blipFill>
        <p:spPr>
          <a:xfrm>
            <a:off x="7391520" y="304920"/>
            <a:ext cx="1400040" cy="140004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9"/>
          <p:cNvSpPr/>
          <p:nvPr/>
        </p:nvSpPr>
        <p:spPr>
          <a:xfrm rot="1258800">
            <a:off x="7086240" y="761760"/>
            <a:ext cx="442800" cy="147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2000">
    <p:random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0"/>
                            </p:stCondLst>
                            <p:childTnLst>
                              <p:par>
                                <p:cTn id="8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5000"/>
                            </p:stCondLst>
                            <p:childTnLst>
                              <p:par>
                                <p:cTn id="9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2"/>
          <p:cNvSpPr txBox="1"/>
          <p:nvPr/>
        </p:nvSpPr>
        <p:spPr>
          <a:xfrm>
            <a:off x="2057400" y="990720"/>
            <a:ext cx="4562640" cy="1066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504d"/>
                </a:solidFill>
                <a:latin typeface="Curlz MT"/>
              </a:rPr>
              <a:t>Mitosi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0504d"/>
              </a:solidFill>
              <a:latin typeface="Curlz MT"/>
              <a:ea typeface="Curlz MT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685800" y="1981080"/>
            <a:ext cx="77724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tosis is the process by which DNA is divided into two identical daughter sets before the cell div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four stages that occur before the cell is completely split apart.  They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h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ph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Metaph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Telo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prophase"/>
          <p:cNvPicPr/>
          <p:nvPr/>
        </p:nvPicPr>
        <p:blipFill>
          <a:blip r:embed="rId1"/>
          <a:stretch/>
        </p:blipFill>
        <p:spPr>
          <a:xfrm>
            <a:off x="1600200" y="4648320"/>
            <a:ext cx="1143000" cy="1028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metaphase"/>
          <p:cNvPicPr/>
          <p:nvPr/>
        </p:nvPicPr>
        <p:blipFill>
          <a:blip r:embed="rId2"/>
          <a:stretch/>
        </p:blipFill>
        <p:spPr>
          <a:xfrm>
            <a:off x="3352680" y="4952880"/>
            <a:ext cx="1143000" cy="1028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anaphase"/>
          <p:cNvPicPr/>
          <p:nvPr/>
        </p:nvPicPr>
        <p:blipFill>
          <a:blip r:embed="rId3"/>
          <a:stretch/>
        </p:blipFill>
        <p:spPr>
          <a:xfrm>
            <a:off x="5334120" y="4648320"/>
            <a:ext cx="1143000" cy="1028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telophase"/>
          <p:cNvPicPr/>
          <p:nvPr/>
        </p:nvPicPr>
        <p:blipFill>
          <a:blip r:embed="rId4"/>
          <a:stretch/>
        </p:blipFill>
        <p:spPr>
          <a:xfrm>
            <a:off x="6858000" y="4952880"/>
            <a:ext cx="1143000" cy="1028880"/>
          </a:xfrm>
          <a:prstGeom prst="rect">
            <a:avLst/>
          </a:prstGeom>
          <a:ln w="0">
            <a:noFill/>
          </a:ln>
        </p:spPr>
      </p:pic>
    </p:spTree>
  </p:cSld>
  <p:transition advTm="16000">
    <p:random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6000"/>
                            </p:stCondLst>
                            <p:childTnLst>
                              <p:par>
                                <p:cTn id="16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8000"/>
                            </p:stCondLst>
                            <p:childTnLst>
                              <p:par>
                                <p:cTn id="17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1523880" y="1828800"/>
            <a:ext cx="7086600" cy="42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rly prophase: chromatin coils to form chromesome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clear membrane disappears, and centrioles migrate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posite poles of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ddle prophase: spindle fibers, microtubules of protei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gin develop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ar fibers extend across the cell fr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entriole to centrio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inetiochore fibers extend from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entromeres of a chromosome to the centrio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 prophase: protein fibers called ast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diate from each centriole in animal cel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WordArt 6"/>
          <p:cNvSpPr txBox="1"/>
          <p:nvPr/>
        </p:nvSpPr>
        <p:spPr>
          <a:xfrm>
            <a:off x="228600" y="152280"/>
            <a:ext cx="6553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urlz MT"/>
              </a:rPr>
              <a:t>Prophas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urlz MT"/>
              <a:ea typeface="Curlz MT"/>
            </a:endParaRPr>
          </a:p>
        </p:txBody>
      </p:sp>
      <p:pic>
        <p:nvPicPr>
          <p:cNvPr id="113" name="Picture 8" descr="phase2"/>
          <p:cNvPicPr/>
          <p:nvPr/>
        </p:nvPicPr>
        <p:blipFill>
          <a:blip r:embed="rId1"/>
          <a:stretch/>
        </p:blipFill>
        <p:spPr>
          <a:xfrm>
            <a:off x="380880" y="4267080"/>
            <a:ext cx="2133720" cy="1471680"/>
          </a:xfrm>
          <a:prstGeom prst="rect">
            <a:avLst/>
          </a:prstGeom>
          <a:ln w="0">
            <a:noFill/>
          </a:ln>
        </p:spPr>
      </p:pic>
    </p:spTree>
  </p:cSld>
  <p:transition advTm="55000">
    <p:random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77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7" dur="770" fill="hold"/>
                                        <p:tgtEl>
                                          <p:spTgt spid="1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9" dur="77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1" dur="77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77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7" dur="770" fill="hold"/>
                                        <p:tgtEl>
                                          <p:spTgt spid="1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9" dur="77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1" dur="77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4000"/>
                            </p:stCondLst>
                            <p:childTnLst>
                              <p:par>
                                <p:cTn id="23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77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7" dur="770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9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1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1905120" y="288000"/>
            <a:ext cx="678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phase, kinetochore fibers move the chromosom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he equator of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WordArt 3"/>
          <p:cNvSpPr txBox="1"/>
          <p:nvPr/>
        </p:nvSpPr>
        <p:spPr>
          <a:xfrm rot="5400000">
            <a:off x="-2247840" y="2705040"/>
            <a:ext cx="6324480" cy="1371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METAPHAS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16" name="Picture 7" descr="spin"/>
          <p:cNvPicPr/>
          <p:nvPr/>
        </p:nvPicPr>
        <p:blipFill>
          <a:blip r:embed="rId1"/>
          <a:stretch/>
        </p:blipFill>
        <p:spPr>
          <a:xfrm>
            <a:off x="2133720" y="1295280"/>
            <a:ext cx="3276360" cy="245772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8"/>
          <p:cNvSpPr/>
          <p:nvPr/>
        </p:nvSpPr>
        <p:spPr>
          <a:xfrm>
            <a:off x="1905120" y="3808800"/>
            <a:ext cx="7238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chromosome has reached its maximum dens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homologous pairs and their sister chromatids intera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fibers which form from either side of the nucl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elope of the cell.  These fibers are procudes from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iole.  There is a centriole at the opposite ends of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hromosomes are then lined by the fibers at what 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n as the metacentric plate, which is located in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5638680" y="190512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ment taking place during metaph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8000">
    <p:random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400"/>
                            </p:stCondLst>
                            <p:childTnLst>
                              <p:par>
                                <p:cTn id="25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400"/>
                            </p:stCondLst>
                            <p:childTnLst>
                              <p:par>
                                <p:cTn id="26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100"/>
                            </p:stCondLst>
                            <p:childTnLst>
                              <p:par>
                                <p:cTn id="26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9500"/>
                            </p:stCondLst>
                            <p:childTnLst>
                              <p:par>
                                <p:cTn id="27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6"/>
          <p:cNvSpPr txBox="1"/>
          <p:nvPr/>
        </p:nvSpPr>
        <p:spPr>
          <a:xfrm>
            <a:off x="228600" y="5334120"/>
            <a:ext cx="61722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Curlz MT"/>
              </a:rPr>
              <a:t>Anaphas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Curlz MT"/>
              <a:ea typeface="Curlz MT"/>
            </a:endParaRPr>
          </a:p>
        </p:txBody>
      </p:sp>
      <p:pic>
        <p:nvPicPr>
          <p:cNvPr id="120" name="Picture 11" descr="anaphasei"/>
          <p:cNvPicPr/>
          <p:nvPr/>
        </p:nvPicPr>
        <p:blipFill>
          <a:blip r:embed="rId3"/>
          <a:stretch/>
        </p:blipFill>
        <p:spPr>
          <a:xfrm>
            <a:off x="762120" y="2133720"/>
            <a:ext cx="3504960" cy="26287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5"/>
          <p:cNvSpPr/>
          <p:nvPr/>
        </p:nvSpPr>
        <p:spPr>
          <a:xfrm>
            <a:off x="4648320" y="533520"/>
            <a:ext cx="41907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s apart the tetrad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arating e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ologous chromos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entromere of e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r of chromatids divid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romatids separ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are pushed to opposi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es of the cell by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d efforts of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bers, all in one qui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6"/>
          <p:cNvSpPr/>
          <p:nvPr/>
        </p:nvSpPr>
        <p:spPr>
          <a:xfrm>
            <a:off x="838080" y="685800"/>
            <a:ext cx="274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7"/>
          <p:cNvSpPr/>
          <p:nvPr/>
        </p:nvSpPr>
        <p:spPr>
          <a:xfrm>
            <a:off x="1143000" y="1219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paration of the fibers to opposite po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2000">
    <p:random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6000"/>
                            </p:stCondLst>
                            <p:childTnLst>
                              <p:par>
                                <p:cTn id="30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20:42:51Z</dcterms:created>
  <dc:creator>commons</dc:creator>
  <dc:description/>
  <dc:language>en-US</dc:language>
  <cp:lastModifiedBy>Morgan karas</cp:lastModifiedBy>
  <dcterms:modified xsi:type="dcterms:W3CDTF">2010-12-06T18:30:21Z</dcterms:modified>
  <cp:revision>44</cp:revision>
  <dc:subject/>
  <dc:title>PowerPoint Presentation</dc:title>
</cp:coreProperties>
</file>